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B4E-2AC8-4992-9483-E5889EEE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6D3-2D78-43FF-BA2F-E4A2803E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1CE-BA05-491C-A5D7-CC08BCB9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CDF-4526-40E1-BBF0-36DF2FFB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BF4-2A0B-4942-B7BB-F54454C5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469-4199-4358-A941-AF0A072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038-CD4B-46CA-BFF8-3ABF59CE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9A8-CF10-48A2-A592-422637E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27A-205C-4B80-A093-E3F20FD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106-C076-4409-BBD6-5A11799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5D9-C921-4187-887F-6C988A9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D2F-006A-4540-AB66-BCD9EBE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6AD6-B5FE-4CA9-BEE0-BB717C10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762120" y="990720"/>
            <a:ext cx="76197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son bac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étudié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240" y="981000"/>
            <a:ext cx="7645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travail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2 ministère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que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380880" y="1295280"/>
            <a:ext cx="8305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’appel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of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ouffr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auvre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im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lle n’en avait pa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elle s’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iée  ave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quit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he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sait pend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ucc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Mathild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oî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bij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p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bij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U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533520" y="990720"/>
            <a:ext cx="78483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Mathil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all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’édu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aru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f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838080" y="114300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rotagon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ner q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un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m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lar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ilen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pas 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ou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pour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mière fo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762120" y="1371600"/>
            <a:ext cx="74674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pr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3" descr="C:\Users\Phyllis\AppData\Local\Microsoft\Windows\Temporary Internet Files\Content.IE5\81EWQ513\MC900423173[1].wmf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n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ur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Picture 3" descr="C:\Users\Phyllis\AppData\Local\Microsoft\Windows\Temporary Internet Files\Content.IE5\UH9487T3\MC900423171[1].wmf"/>
          <p:cNvPicPr/>
          <p:nvPr/>
        </p:nvPicPr>
        <p:blipFill>
          <a:blip r:embed="rId1"/>
          <a:stretch/>
        </p:blipFill>
        <p:spPr>
          <a:xfrm>
            <a:off x="3657600" y="25909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in de terreu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ni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3" descr="C:\Users\Phyllis\AppData\Local\Microsoft\Windows\Temporary Internet Files\Content.IE5\1YT0E33H\MC900423151[1].wmf"/>
          <p:cNvPicPr/>
          <p:nvPr/>
        </p:nvPicPr>
        <p:blipFill>
          <a:blip r:embed="rId1"/>
          <a:stretch/>
        </p:blipFill>
        <p:spPr>
          <a:xfrm>
            <a:off x="6705720" y="320040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espoi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tr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Picture 3" descr="C:\Users\Phyllis\AppData\Local\Microsoft\Windows\Temporary Internet Files\Content.IE5\X4LDVMWH\MC900433818[1].png"/>
          <p:cNvPicPr/>
          <p:nvPr/>
        </p:nvPicPr>
        <p:blipFill>
          <a:blip r:embed="rId1"/>
          <a:stretch/>
        </p:blipFill>
        <p:spPr>
          <a:xfrm>
            <a:off x="662940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ilian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andaleux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shonor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4" name="Picture 3" descr="C:\Users\Phyllis\AppData\Local\Microsoft\Windows\Temporary Internet Files\Content.IE5\1YT0E33H\MC900434415[1].wmf"/>
          <p:cNvPicPr/>
          <p:nvPr/>
        </p:nvPicPr>
        <p:blipFill>
          <a:blip r:embed="rId1"/>
          <a:stretch/>
        </p:blipFill>
        <p:spPr>
          <a:xfrm>
            <a:off x="3581280" y="4648320"/>
            <a:ext cx="18543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6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robl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ten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s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blèm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m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n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990720"/>
            <a:ext cx="8077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’av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érance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685800" y="990720"/>
            <a:ext cx="7848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son #1 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ster à 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143000"/>
            <a:ext cx="74674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914400" y="83808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son #2 Pq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Voul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ister à la soir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ré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Lois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ient qu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838080"/>
            <a:ext cx="7924680" cy="47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lus gr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Lois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connaiss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n’aima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siter, 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 souffrait en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l’am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ide à soluci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bijoux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mi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ne choisi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coû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ouv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ilet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ri pens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lle pouv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etter qu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b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’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oisit co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xactement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-t-elle trouv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é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quand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oussé un c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ause d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oi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219320" y="114300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au desc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y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rg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a fa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nne au mar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véhi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hev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1440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t de Chr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tr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beau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Die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met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 les idé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d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838080" y="1219320"/>
            <a:ext cx="7391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dépêcher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-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19320" y="1143000"/>
            <a:ext cx="71625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ouc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es coins en ha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4" descr="C:\Users\Phyllis\AppData\Local\Microsoft\Windows\Temporary Internet Files\Content.IE5\X4LDVMWH\MC900433820[1].png"/>
          <p:cNvPicPr/>
          <p:nvPr/>
        </p:nvPicPr>
        <p:blipFill>
          <a:blip r:embed="rId1"/>
          <a:stretch/>
        </p:blipFill>
        <p:spPr>
          <a:xfrm>
            <a:off x="762120" y="914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%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TextBox 3" descr=""/>
          <p:cNvPicPr/>
          <p:nvPr/>
        </p:nvPicPr>
        <p:blipFill>
          <a:blip r:embed="rId1"/>
          <a:stretch/>
        </p:blipFill>
        <p:spPr>
          <a:xfrm>
            <a:off x="755640" y="438120"/>
            <a:ext cx="7785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TextBox 3" descr=""/>
          <p:cNvPicPr/>
          <p:nvPr/>
        </p:nvPicPr>
        <p:blipFill>
          <a:blip r:embed="rId1"/>
          <a:stretch/>
        </p:blipFill>
        <p:spPr>
          <a:xfrm>
            <a:off x="1170000" y="969840"/>
            <a:ext cx="70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762120" y="1066680"/>
            <a:ext cx="7848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uvement du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a froid ou peur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Guy de Maupassant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agonis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r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ut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 avai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l â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and il est mort?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43 a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(1850-1893)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67057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s’appell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30T12:46:47Z</dcterms:modified>
  <cp:revision>72</cp:revision>
  <dc:subject/>
  <dc:title>No Slide Title</dc:title>
</cp:coreProperties>
</file>